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A17-6DDE-4BD1-838D-53728A0D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D6B-EC17-4CAF-B785-3542C31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0C6-80D8-4A48-BC1C-45D49705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5A0A-95AE-4A31-92EB-3AF90961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D2C-9625-45B8-8FF7-139EF8BC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2751-82E7-467A-9775-71C0673F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0E54-994A-49FA-98F7-EDE6778A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F46C-C9DF-4EF0-BA3D-167FF39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7AC5-E849-469E-8944-C648BCEC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6C48-8323-4AA7-B26D-9D776578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9194-CA8E-4CCD-BAB6-6F0E3FB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4A5-4DF4-4EC6-9A7E-4A727A89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01D3-304D-4EE8-8F3C-94DDC60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8EF1-3BFF-40CB-A75D-8D2B380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D106-B476-4AA0-B1EC-DD2A105C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F638-E32C-4932-945F-3EC2D240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020F-6047-4045-A975-D59785BD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F03-66A9-4EFC-A8B9-E0803422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D33C-E8C2-4CA6-9E19-D94EAF23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0C8-C1E0-439C-9BDE-6C02EF5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330-A0DD-4900-A329-949496F7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7D6-09A6-4BE6-B4BE-0E0596B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F4F-5A8E-4308-9D37-A4A2902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85B-86AD-40DB-9B6C-DC3E82D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EE38-27BA-4CBC-BC4E-675CBCFD391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5CC-2F9F-430C-8A02-8D2B1EFBCA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aniel “Alicea” Rey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Picture 5" descr="Picture 001"/>
          <p:cNvPicPr/>
          <p:nvPr/>
        </p:nvPicPr>
        <p:blipFill>
          <a:blip r:embed="rId1"/>
          <a:stretch/>
        </p:blipFill>
        <p:spPr>
          <a:xfrm>
            <a:off x="1752480" y="2590920"/>
            <a:ext cx="5562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orn &amp; Raised in Lawrence, 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k St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arbox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akland Ave School (Methue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liver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lington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thuen High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ringfield Colle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an in 6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grade, in Lawrence Youth Progra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eted through HS and College and post college years National and Internationall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Wrestling"/>
          <p:cNvPicPr/>
          <p:nvPr/>
        </p:nvPicPr>
        <p:blipFill>
          <a:blip r:embed="rId1"/>
          <a:stretch/>
        </p:blipFill>
        <p:spPr>
          <a:xfrm>
            <a:off x="2286000" y="2895480"/>
            <a:ext cx="4572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gan coaching in 1995 -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ishop Guertin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ampton Prep Schoo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ton Boxboro Reg.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eater Lawrence Tech H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OSG"/>
          <p:cNvPicPr/>
          <p:nvPr/>
        </p:nvPicPr>
        <p:blipFill>
          <a:blip r:embed="rId1"/>
          <a:stretch/>
        </p:blipFill>
        <p:spPr>
          <a:xfrm>
            <a:off x="838080" y="3962520"/>
            <a:ext cx="342432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00_2331"/>
          <p:cNvPicPr/>
          <p:nvPr/>
        </p:nvPicPr>
        <p:blipFill>
          <a:blip r:embed="rId2"/>
          <a:stretch/>
        </p:blipFill>
        <p:spPr>
          <a:xfrm>
            <a:off x="5029200" y="38862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00_2332"/>
          <p:cNvPicPr/>
          <p:nvPr/>
        </p:nvPicPr>
        <p:blipFill>
          <a:blip r:embed="rId3"/>
          <a:stretch/>
        </p:blipFill>
        <p:spPr>
          <a:xfrm>
            <a:off x="6477120" y="1676520"/>
            <a:ext cx="24987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ift All Focus Towa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leting Degree Programs &amp; My Studies Here at Cambridge Colle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MP900439497[1]"/>
          <p:cNvPicPr/>
          <p:nvPr/>
        </p:nvPicPr>
        <p:blipFill>
          <a:blip r:embed="rId1"/>
          <a:stretch/>
        </p:blipFill>
        <p:spPr>
          <a:xfrm>
            <a:off x="2362320" y="3505320"/>
            <a:ext cx="42670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ild a Career &amp; Set New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6" name="Picture 4" descr="Picture"/>
          <p:cNvPicPr/>
          <p:nvPr/>
        </p:nvPicPr>
        <p:blipFill>
          <a:blip r:embed="rId1"/>
          <a:stretch/>
        </p:blipFill>
        <p:spPr>
          <a:xfrm>
            <a:off x="2197080" y="1827360"/>
            <a:ext cx="565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10:27:04Z</dcterms:created>
  <dc:creator>unknown</dc:creator>
  <dc:description/>
  <dc:language>en-US</dc:language>
  <cp:lastModifiedBy>ccstudent</cp:lastModifiedBy>
  <dcterms:modified xsi:type="dcterms:W3CDTF">2011-06-12T12:29:53Z</dcterms:modified>
  <cp:revision>5</cp:revision>
  <dc:subject/>
  <dc:title>Daniel “Alicea” Reyes</dc:title>
</cp:coreProperties>
</file>